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png" ContentType="image/png"/>
  <Override PartName="/ppt/media/image49.jpeg" ContentType="image/jpeg"/>
  <Override PartName="/ppt/media/image56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34.wmf" ContentType="image/x-wmf"/>
  <Override PartName="/ppt/media/image28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43.wmf" ContentType="image/x-wmf"/>
  <Override PartName="/ppt/media/image5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54.wmf" ContentType="image/x-wmf"/>
  <Override PartName="/ppt/media/image9.png" ContentType="image/png"/>
  <Override PartName="/ppt/media/image45.wmf" ContentType="image/x-wmf"/>
  <Override PartName="/ppt/media/image31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44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37.png" ContentType="image/png"/>
  <Override PartName="/ppt/media/image7.png" ContentType="image/png"/>
  <Override PartName="/ppt/media/image53.wmf" ContentType="image/x-wmf"/>
  <Override PartName="/ppt/media/image12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731F-BD78-4315-A27C-17281E8E0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D3C7-65CE-4966-8888-1B7272FB9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随着病程的延长，病人的肢体功能也在变化，所以要请专业人员定期对矫形器进行检查、调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A98B-12BC-43F9-9662-4A0A8CF09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1781-CBB0-4E7D-B39E-20AAC7442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结构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壳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外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骨骸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内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用途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饰性假肢、功能性假肢、作业性假肢和运动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安装时间分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临时性假肢和正式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解剖部位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肢假肢（补缺假指、前臂假肢、上臂假肢、肩关节离断假肢）和下肢假肢（踝部假肢、小腿假肢、大腿假肢、膝部假肢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55F9-AA17-44C3-8FF8-7EC6E8474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7719-48F9-4004-95C1-B853785F1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3964-6194-4AD3-9D0E-00D9F6C1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D77C-27C4-48E2-B2B7-888E0FA7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B98-BA35-4F36-A7C1-700C7876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67D-51DF-4594-929A-D70B92F6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4662-F0FB-4077-A826-BBE08F31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367F-EE79-4B80-8A3F-55D55663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1855-C250-4220-853B-57D6917C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9C22-C24A-42BE-BC34-2D6E90DB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20EC-0C7E-4051-B256-5092E2BB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5A49-345F-4147-9577-C3940AA7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B96E-D983-4651-B4F6-0263672F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FCE-CFEB-4819-902F-CC04F218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AC2F-C62C-40C3-B969-86609898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24DA-CDA5-4BB7-9E2B-395D133D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8A74-C19C-4FF4-8F35-0DC1B778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8BD3-3C92-4401-B1F1-6F7F8121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2FC6-8467-4BF0-A2A1-FD110592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DC94-B94C-494A-B6FC-DA0C4F58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C0EC-9ED6-4F38-B602-F29AA6E2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D2E9-546E-4250-88C7-8A61CD41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A2D-9BD7-465D-83EB-542526C4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35E1-BC8C-47E6-8FD0-FC06F8C1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47BD-0627-464E-B64E-0756456F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181A-7A74-4801-9CB6-83294679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5F8F-0368-4B77-ABAF-B3AC3529A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9"/>
          <p:cNvGrpSpPr/>
          <p:nvPr/>
        </p:nvGrpSpPr>
        <p:grpSpPr>
          <a:xfrm>
            <a:off x="76320" y="0"/>
            <a:ext cx="9144000" cy="2089080"/>
            <a:chOff x="76320" y="0"/>
            <a:chExt cx="9144000" cy="2089080"/>
          </a:xfrm>
        </p:grpSpPr>
        <p:grpSp>
          <p:nvGrpSpPr>
            <p:cNvPr id="45" name="Group 90"/>
            <p:cNvGrpSpPr/>
            <p:nvPr/>
          </p:nvGrpSpPr>
          <p:grpSpPr>
            <a:xfrm>
              <a:off x="104760" y="0"/>
              <a:ext cx="9115560" cy="1790640"/>
              <a:chOff x="104760" y="0"/>
              <a:chExt cx="9115560" cy="1790640"/>
            </a:xfrm>
          </p:grpSpPr>
          <p:sp>
            <p:nvSpPr>
              <p:cNvPr id="46" name="Rectangle 91"/>
              <p:cNvSpPr/>
              <p:nvPr/>
            </p:nvSpPr>
            <p:spPr>
              <a:xfrm flipV="1">
                <a:off x="104760" y="0"/>
                <a:ext cx="9115560" cy="1790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92"/>
              <p:cNvSpPr/>
              <p:nvPr/>
            </p:nvSpPr>
            <p:spPr>
              <a:xfrm flipV="1">
                <a:off x="104760" y="1688760"/>
                <a:ext cx="9115560" cy="10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93"/>
            <p:cNvSpPr/>
            <p:nvPr/>
          </p:nvSpPr>
          <p:spPr>
            <a:xfrm>
              <a:off x="7632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1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2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5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8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5580-0CA9-49EB-BF5E-6319069D6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ktjz.net/UpFile/s2009323172226.jpg&amp;imgrefurl=http://www.ktjz.net/product.asp%3Fclass%3D1%26key%3D%26price1%3D%26price2%3D%26page%3D2%26section%3D1&amp;usg=__Tgr4X0rYzPycCCAh0CMH7JPg0-c=&amp;h=472&amp;w=285&amp;sz=15&amp;hl=zh-CN&amp;start=4&amp;um=1&amp;tbnid=Ck_1pxzwaWuLcM:&amp;tbnh=129&amp;tbnw=78&amp;prev=/images%3Fq%3D%25E6%2588%25AA%25E7%2598%25AB%25E8%25A1%258C%25E8%25B5%25B0%25E5%2599%25A8%26hl%3Dzh-CN%26client%3Dpub-0084673751261698%26channel%3D2000072013%26prog%3Daff%26sa%3DN%26um%3D1%26newwindow%3D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dllbjz.cn/cp/UploadFiles_8529/200807/2008071222490113.jpg&amp;imgrefurl=http://www.dllbjz.cn/cp/ShowArticle.asp%3FArticleID%3D59&amp;usg=__9-AcsTQzNmyi_tV7VuSf3V69DL4=&amp;h=459&amp;w=400&amp;sz=113&amp;hl=zh-CN&amp;start=2&amp;um=1&amp;tbnid=lCLF9rdUbW2K7M:&amp;tbnh=128&amp;tbnw=112&amp;prev=/images%3Fq%3D%25E4%25BA%25A4%25E6%259B%25BF%25E5%25BC%258F%25E8%25A1%258C%25E8%25B5%25B0%25E5%2599%25A8%26hl%3Dzh-CN%26client%3Dpub-0084673751261698%26channel%3D2000072013%26prog%3Daff%26sa%3DG%26um%3D1%26newwindow%3D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n/imgres?imgurl=http://www14.babidou.com/pic/2007/11/21/zhangyiyong/&#27704;&#38738;&#24215;/T1n3tXXXJeXXb1upjX.jpg&amp;imgrefurl=http://www.bjwkl.com/goods.php%3Fid%3D1087&amp;usg=__lhBgiRWZw-FyTLqylt8nk0XY2_I=&amp;h=510&amp;w=441&amp;sz=19&amp;hl=zh-CN&amp;start=17&amp;um=1&amp;tbnid=vrakV6QrWj3l9M:&amp;tbnh=131&amp;tbnw=113&amp;prev=/images%3Fq%3D%25E4%25BA%25A4%25E6%259B%25BF%25E5%25BC%258F%25E8%25A1%258C%25E8%25B5%25B0%25E5%2599%25A8%26hl%3Dzh-CN%26client%3Dpub-0084673751261698%26channel%3D2000072013%26prog%3Daff%26sa%3DG%26um%3D1%26newwindow%3D1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327/TXT-200773154851112.jpg&amp;imgrefurl=http://www.xinxuyao.com/health/limbs/share/200707039576.shtml&amp;usg=__GfM65UDpUhBzTFuaEw6LaZgNL2U=&amp;h=465&amp;w=300&amp;sz=61&amp;hl=zh-CN&amp;start=9&amp;um=1&amp;tbnid=L4Mszmm4rdjGLM:&amp;tbnh=128&amp;tbnw=83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17448&amp;cl=2&amp;cm=1&amp;sc=0&amp;lm=-1&amp;pn=11&amp;rn=1&amp;di=1926147380&amp;ln=1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4649&amp;cl=2&amp;cm=1&amp;sc=0&amp;lm=-1&amp;pn=48&amp;rn=1&amp;di=2011280088&amp;ln=129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%D9&#1451;&amp;in=13320&amp;cl=2&amp;cm=1&amp;sc=0&amp;lm=-1&amp;pn=1&amp;rn=1&amp;di=1550654284&amp;ln=2000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005/TXT-2007911112621.jpg&amp;imgrefurl=http://www.xinxuyao.com/news/tech/2007090111223.shtml&amp;usg=__CaHL7_E2_0SerUNCPu0b7q4PJ0M=&amp;h=419&amp;w=300&amp;sz=23&amp;hl=zh-CN&amp;start=17&amp;um=1&amp;tbnid=wBhRL1vmkBpbyM:&amp;tbnh=125&amp;tbnw=89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n/imgres?imgurl=http://pic4.sdnews.com.cn/NewsImg/2009/2/20/15894909.jpg&amp;imgrefurl=http://soc.sdnews.com.cn/2009/2/20/725413.html&amp;usg=__O3e5t-D0cV14XMoMuogfOlOHApI=&amp;h=298&amp;w=450&amp;sz=31&amp;hl=zh-CN&amp;start=16&amp;um=1&amp;tbnid=b6P-d-TztxXDMM:&amp;tbnh=84&amp;tbnw=127&amp;prev=/images%3Fq%3D%25E5%2581%2587%25E8%2582%25A2%26hl%3Dzh-CN%26client%3Dpub-0084673751261698%26channel%3D2000072013%26prog%3Daff%26um%3D1%26newwindow%3D1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tranism.com/weblog/images/toyota-ireal_01.jpg&amp;imgrefurl=http://madeinchn.cn/thread-16-20448-1-1.htm&amp;usg=__wHKKTj1GngW2PIwkkq19gQd7pYc=&amp;h=374&amp;w=400&amp;sz=18&amp;hl=zh-CN&amp;start=4&amp;um=1&amp;tbnid=PbLMnavSejEhzM:&amp;tbnh=116&amp;tbnw=124&amp;prev=/images%3Fq%3D%25E8%25BD%25AE%25E6%25A4%2585%26hl%3Dzh-CN%26client%3Dpub-0084673751261698%26channel%3D2000072013%26prog%3Daff%26sa%3DN%26um%3D1%26newwindow%3D1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2006-8/2212441759726.jpg&amp;imgrefurl=http://www.xinxuyao.com/products/moves/1/7/200608225099.shtml&amp;usg=__-9kI3OupIVsADwhnx4tf_MN6emA=&amp;h=263&amp;w=240&amp;sz=46&amp;hl=zh-CN&amp;start=1&amp;um=1&amp;tbnid=tVq-EjCrs-aJBM:&amp;tbnh=112&amp;tbnw=102&amp;prev=/images%3Fq%3D%25E5%258D%2595%25E4%25BE%25A7%25E9%25A9%25B1%25E5%258A%25A8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wfu.com/upload1/200907/2009771524087730.JPG&amp;imgrefurl=http://www.jwfu.com/products/3112/&amp;usg=__9xQEngyvqfgJfqwuiKi9bE2h09I=&amp;h=2100&amp;w=1323&amp;sz=194&amp;hl=zh-CN&amp;start=5&amp;um=1&amp;tbnid=Ic477TeaP6ITGM:&amp;tbnh=150&amp;tbnw=95&amp;prev=/images%3Fq%3D%25E7%25AB%2599%25E7%25AB%258B%25E5%25BC%258F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六、康复工程在康复护理中的应用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MCj04380790000[1]"/>
          <p:cNvPicPr/>
          <p:nvPr/>
        </p:nvPicPr>
        <p:blipFill>
          <a:blip r:embed="rId1"/>
          <a:stretch/>
        </p:blipFill>
        <p:spPr>
          <a:xfrm>
            <a:off x="6095880" y="41148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581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张红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jxq02"/>
          <p:cNvPicPr/>
          <p:nvPr/>
        </p:nvPicPr>
        <p:blipFill>
          <a:blip r:embed="rId1"/>
          <a:stretch/>
        </p:blipFill>
        <p:spPr>
          <a:xfrm>
            <a:off x="304920" y="609480"/>
            <a:ext cx="3328920" cy="426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516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13"/>
          <p:cNvPicPr/>
          <p:nvPr/>
        </p:nvPicPr>
        <p:blipFill>
          <a:blip r:embed="rId2"/>
          <a:stretch/>
        </p:blipFill>
        <p:spPr>
          <a:xfrm>
            <a:off x="4343400" y="457200"/>
            <a:ext cx="3948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055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肩外展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负重和行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撑体重，辅助或替代肢体功能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限制下肢关节不必要的活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下肢的稳定性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改善站立和步行时的姿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预防和矫正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J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905120" cy="179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58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持躯干，保持姿势。辅助稳定局部，减轻疼痛，预防和矫正脊柱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：颈椎矫形器（围领、颈椎牵引带）、固定式脊柱矫形器、矫正式脊柱矫形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J25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56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43200" y="5867280"/>
            <a:ext cx="32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矫形器的穿戴要正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时清理，保持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是否适合病人佩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佩带矫形器的肢体要进行康复训练，以保持或增强其残余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矫形器不能直接接触皮肤伤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下肢水肿的患者应注意矫形器不要紧贴皮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佩戴处皮肤是否明显受压，给予及时调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2153500000[1]"/>
          <p:cNvPicPr/>
          <p:nvPr/>
        </p:nvPicPr>
        <p:blipFill>
          <a:blip r:embed="rId1"/>
          <a:stretch/>
        </p:blipFill>
        <p:spPr>
          <a:xfrm>
            <a:off x="7467480" y="4952880"/>
            <a:ext cx="119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人体支撑体重、保持平衡和行走的工具称为助行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适用人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走不稳、下肢短缩或一侧下肢不能支撑或步态不平衡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、步行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MCj02172300000[1]"/>
          <p:cNvPicPr/>
          <p:nvPr/>
        </p:nvPicPr>
        <p:blipFill>
          <a:blip r:embed="rId1"/>
          <a:stretch/>
        </p:blipFill>
        <p:spPr>
          <a:xfrm>
            <a:off x="7015320" y="4724280"/>
            <a:ext cx="1671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21233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554120" cy="18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j0286865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9810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为一只手扶持以助行走的工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单足手杖、多足手杖。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96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定义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ehabilitation engineeri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工程和技术的手段替代或补偿减退和丧失的功能，矫正畸形，预防功能进一步退化的工程学称为康复工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j03228430000[1]"/>
          <p:cNvPicPr/>
          <p:nvPr/>
        </p:nvPicPr>
        <p:blipFill>
          <a:blip r:embed="rId1"/>
          <a:stretch/>
        </p:blipFill>
        <p:spPr>
          <a:xfrm>
            <a:off x="6781680" y="4495680"/>
            <a:ext cx="1895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5181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臂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亦称为洛氏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fstrand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把手的位置和支柱的长度可以调节，夹住前臂的臂套为折页式，有前开口和侧开口两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5825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靠、稳定，用于截瘫或外伤较严重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199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又称类风湿杖。有固定带，用于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关节损害严重的类风湿患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部有严重外伤、病变而不宜负重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85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8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☻辅助下肢功能障碍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平衡，支持体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强上肢伸肌肌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助行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MCj03951880000[1]"/>
          <p:cNvPicPr/>
          <p:nvPr/>
        </p:nvPicPr>
        <p:blipFill>
          <a:blip r:embed="rId1"/>
          <a:stretch/>
        </p:blipFill>
        <p:spPr>
          <a:xfrm>
            <a:off x="6019920" y="4495680"/>
            <a:ext cx="1303200" cy="1597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MCj03952160000[1]"/>
          <p:cNvPicPr/>
          <p:nvPr/>
        </p:nvPicPr>
        <p:blipFill>
          <a:blip r:embed="rId2"/>
          <a:stretch/>
        </p:blipFill>
        <p:spPr>
          <a:xfrm>
            <a:off x="6934320" y="2362320"/>
            <a:ext cx="160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fram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一种三边形的金属框架，可将患者保护其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带轮，可支撑体重，便于站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包括：固定型、交互型、前方有轮型、老年人用步行车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952060000[1]"/>
          <p:cNvPicPr/>
          <p:nvPr/>
        </p:nvPicPr>
        <p:blipFill>
          <a:blip r:embed="rId1"/>
          <a:stretch/>
        </p:blipFill>
        <p:spPr>
          <a:xfrm>
            <a:off x="7010280" y="4648320"/>
            <a:ext cx="16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1732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abou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适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截瘫或部分高位不完全性截瘫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76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：是最早用于无行走能力的高位瘫痪患者的步行矫形器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原因所致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或更高节段不完全性脊髓损伤患者，使其实现独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2952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81280"/>
            <a:ext cx="2300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使用助行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器的高度与病人身材相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腋杖时应以上肢的臂力与腋窝同时支撑身体，以免腋窝长期受压而损伤腋神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拐尽量置于健侧以促进患侧负重，注意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Cj04162100000[1]"/>
          <p:cNvPicPr/>
          <p:nvPr/>
        </p:nvPicPr>
        <p:blipFill>
          <a:blip r:embed="rId1"/>
          <a:stretch/>
        </p:blipFill>
        <p:spPr>
          <a:xfrm>
            <a:off x="7467480" y="4800600"/>
            <a:ext cx="1314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截肢者恢复原有肢体的形态或功能，弥补肢体缺损，代偿已失去肢体的部分功能而装配的人工肢体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962520"/>
            <a:ext cx="153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际标准化组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和训练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矫形器和假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自理和防护辅助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人移动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及其他场所使用的家具及配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信、信号及信号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品及物品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改善辅助器具和设备、工具及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0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休闲娱乐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Cj02173660000[1]"/>
          <p:cNvPicPr/>
          <p:nvPr/>
        </p:nvPicPr>
        <p:blipFill>
          <a:blip r:embed="rId1"/>
          <a:stretch/>
        </p:blipFill>
        <p:spPr>
          <a:xfrm>
            <a:off x="6934320" y="5241960"/>
            <a:ext cx="1676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结构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用途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安装时间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解剖部位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u=502248150,2995729511&amp;fm=0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209680"/>
            <a:ext cx="288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及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结构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壳式假肢；②骨骼式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7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用途分为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①装饰性假肢；②功能性假肢；③作业性假肢；④运动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u=4204324454,3325836425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68520"/>
            <a:ext cx="288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u=84546872,2247944689&amp;fm=0&amp;gp=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0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安装时间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临时性假肢； ②正式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解剖部位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上肢假肢 ； ②下肢假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170080" cy="304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7242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选取原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残肢康复评定（包括皮肤情况、残肢畸形及程度、残肢长度测量、残端形状、关节活动度、肌力检查等）来选取能代偿或恢复原有肢体的功能和形态的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以患者接受为原则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心理接受和经济接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符合康复工程对残肢的要求，如残肢遗有功能、大小、活动度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假肢的穿戴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壳式假肢穿戴时：残肢涂上滑石粉→平整地套上残肢袜，有衬套的假肢先穿上内衬套→再将残肢穿进假肢接受腔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MCj02919900000[1]"/>
          <p:cNvPicPr/>
          <p:nvPr/>
        </p:nvPicPr>
        <p:blipFill>
          <a:blip r:embed="rId1"/>
          <a:stretch/>
        </p:blipFill>
        <p:spPr>
          <a:xfrm>
            <a:off x="7315200" y="5181480"/>
            <a:ext cx="1582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起坐和站立的动作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起立动作时假肢在前、健肢在后，双手压大腿下部，以健侧支撑体重，站起、坐下，假肢靠近椅子或凳子，身体外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。以健侧支撑，屈膝时假肢侧的手扶椅子或凳子坐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2560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时性假肢安装及康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穿戴临时假肢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迈步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侧方移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阶梯及坡道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19720" y="2590920"/>
            <a:ext cx="44193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永久性假肢的安装及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穿戴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站立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杠内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用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57200" y="13716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使用的护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康复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假肢残肢维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清理，保持假肢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膝轴、踝轴、螺丝、皮带扣、铆钉要定期检查，及时拧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金属关节不灵活、有响声时，要及时擦洗加油或更换新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残肢某处受压疼痛时，可挖空该处的衬垫或用毛毡填在该部位的周围以减轻疼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j02055620000[1]"/>
          <p:cNvPicPr/>
          <p:nvPr/>
        </p:nvPicPr>
        <p:blipFill>
          <a:blip r:embed="rId1"/>
          <a:stretch/>
        </p:blipFill>
        <p:spPr>
          <a:xfrm>
            <a:off x="7215120" y="5257800"/>
            <a:ext cx="17766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rthosi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417320"/>
            <a:ext cx="7162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人体四肢、躯干等部位，预防或矫正四肢、躯干的畸形，增强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正常支撑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及治疗骨关节和神经肌肉疾病，并以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补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功能为目的的体外器具的总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通过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固定局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限制异常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达到其目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620120" y="1219320"/>
            <a:ext cx="11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391520" y="3208320"/>
            <a:ext cx="1447560" cy="136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7338960" y="4724280"/>
            <a:ext cx="1424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定义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由于肌肉、神经、关节等原因导致下肢功能减弱、丧失，或由于病情、年龄等原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不能行走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康复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代步、身体锻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参加社会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适用于脊髓损伤、下肢伤残、颅脑损伤、脑卒中偏瘫、骨关节疾病、年老体弱者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Cj04360290000[1]"/>
          <p:cNvPicPr/>
          <p:nvPr/>
        </p:nvPicPr>
        <p:blipFill>
          <a:blip r:embed="rId1"/>
          <a:stretch/>
        </p:blipFill>
        <p:spPr>
          <a:xfrm>
            <a:off x="6934320" y="4495680"/>
            <a:ext cx="1854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和特殊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轮椅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躺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侧驱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竞技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MCj03052790000[1]"/>
          <p:cNvPicPr/>
          <p:nvPr/>
        </p:nvPicPr>
        <p:blipFill>
          <a:blip r:embed="rId1"/>
          <a:stretch/>
        </p:blipFill>
        <p:spPr>
          <a:xfrm>
            <a:off x="6629400" y="3276720"/>
            <a:ext cx="187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的轮椅，主要由轮椅架、轮、刹车装置、座靠和脚踏板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脊髓损伤、下肢伤残、颅脑疾病、老年和体弱多病的患者使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6672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电动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轮椅本身携带电源，操控部分可由手、头、舌、气、声等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纵电机的不同转向和转速，实现进退、转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双上肢均不能驱动轮椅或高位截瘫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单侧驱动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驱动大轮用的两个驱动轮环均在一侧。适用于只有单侧上肢有驱动轮椅能力的残疾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581280"/>
            <a:ext cx="2776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站立式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者可以背靠着靠背实现站立。适用于截瘫残疾人，帮助他们完成必须站立才能完成的工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业型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作业活动的进行。如打字用轮椅无扶手，以便轮椅与工作台接近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048120" cy="25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MCj03102520000[1]"/>
          <p:cNvPicPr/>
          <p:nvPr/>
        </p:nvPicPr>
        <p:blipFill>
          <a:blip r:embed="rId2"/>
          <a:stretch/>
        </p:blipFill>
        <p:spPr>
          <a:xfrm>
            <a:off x="5181480" y="3657600"/>
            <a:ext cx="3124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竞技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供残疾人体育运动时使用，如高速轮椅、篮球轮椅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MCj02320570000[1]"/>
          <p:cNvPicPr/>
          <p:nvPr/>
        </p:nvPicPr>
        <p:blipFill>
          <a:blip r:embed="rId1"/>
          <a:stretch/>
        </p:blipFill>
        <p:spPr>
          <a:xfrm>
            <a:off x="4648320" y="3429000"/>
            <a:ext cx="2166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选取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情需要，合理选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全可靠，结实耐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尺寸合理，使用舒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使用方便，耗能量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美观大方，经济实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MCj0436135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40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医生的轮椅处方选择适宜的轮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前检查各部件性能，以保证安全和顺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乘坐轮椅的姿势要正确，坐位不平衡者要系安全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从轮椅站起之前，先将闸制动；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推坐轮椅病人下坡时，应倒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MCj02331950000[1]"/>
          <p:cNvPicPr/>
          <p:nvPr/>
        </p:nvPicPr>
        <p:blipFill>
          <a:blip r:embed="rId1"/>
          <a:stretch/>
        </p:blipFill>
        <p:spPr>
          <a:xfrm>
            <a:off x="7315200" y="5486400"/>
            <a:ext cx="1552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稳定和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和矫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与免负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偿与助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203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乘坐轮椅时，应预防压疮，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抬臀一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使用轮椅者，应戴手套以防手掌被轮圈磨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位截瘫者乘坐轮椅，必须有专人保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教会患者轮椅的使用方法及进行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使用训练，如保持正确坐姿，肌力训练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压训练，轮椅的打开、收放等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MCj01954200000[1]"/>
          <p:cNvPicPr/>
          <p:nvPr/>
        </p:nvPicPr>
        <p:blipFill>
          <a:blip r:embed="rId1"/>
          <a:stretch/>
        </p:blipFill>
        <p:spPr>
          <a:xfrm>
            <a:off x="7162920" y="4734000"/>
            <a:ext cx="17110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命名：国际标准组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ot Orthosis   ——   F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kle Foot Orthosis   ——   AF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膝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nee Ankle Foot Orthosis——KA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and Orthosis  ——  H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腕手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rist Hand Orthosis  ——  WHO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324270000[1]"/>
          <p:cNvPicPr/>
          <p:nvPr/>
        </p:nvPicPr>
        <p:blipFill>
          <a:blip r:embed="rId1"/>
          <a:stretch/>
        </p:blipFill>
        <p:spPr>
          <a:xfrm>
            <a:off x="5645160" y="4691160"/>
            <a:ext cx="1212840" cy="1861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49270000[1]"/>
          <p:cNvPicPr/>
          <p:nvPr/>
        </p:nvPicPr>
        <p:blipFill>
          <a:blip r:embed="rId2"/>
          <a:stretch/>
        </p:blipFill>
        <p:spPr>
          <a:xfrm>
            <a:off x="7029360" y="46674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是保持不稳定的肢体位于功能位，提供牵引力以防止挛缩，预防或矫正肢体畸形，以及补偿失去的肌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固定性（静止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功能性（可动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23880" y="3886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720720" y="380880"/>
            <a:ext cx="4079880" cy="4419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0480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固定性上肢矫形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56272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功能性上肢矫形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2</cp:lastModifiedBy>
  <dcterms:modified xsi:type="dcterms:W3CDTF">2015-12-16T07:14:4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